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89FCA-4F2E-4429-AC58-7172DEBCDB0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F44D7-74F4-4D32-89D6-8677485F85F7}" type="slidenum">
              <a:rPr b="0" lang="zh-CN"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3850D0-6379-47BD-955F-759840C050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D7D52-C585-4BA1-A719-A5E98DF93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CAFF70-FB78-4F3C-9C73-DF792AB6C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272B5C-74ED-4BBD-85D5-22B99D655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698BD0-0BB7-4C57-A8BD-9F4D0F9C47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561470-E580-4BDA-A520-1F2AC363D0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C49570-38C2-4E1B-9C17-87B02D337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D0473D-B4C8-4FEC-91A6-AC58EBF3AA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7C2054-B7AC-4B54-85B7-5F7BBB25C1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A189F5-194C-43B4-9709-74DB971778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E08C1-96BE-4156-8E74-98A0EC763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824AA-51B6-4B8F-9C08-2D95AFEEE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A2DC3-463D-4C14-ACF6-9EADD59BC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4AECC-F43E-4860-8F18-860BBFF2F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9168B3-A5E8-4D81-972D-4D373A4CBA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AAFD27-F3CE-4DF6-9472-41AF7ABD47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DBBD4F-0F48-4C6F-AE4F-2AA58EAD0D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4A67E-722B-4226-B9BA-1E8570DCF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E3B55-26EE-4488-A3E1-7DC29E402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782C1-87F8-4088-9398-B41B52D8A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E7FD9-2413-4AAA-B8D0-BD6D44436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5F119-0259-4DA1-80CD-D6C45265A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64456-601C-466B-B719-B543B913B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89EAB-2822-4B76-9ECC-53F6243066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C50A1-FB6C-403E-A967-C1E0906550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76674-78F7-4844-B784-7048EB7CD685}"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2018</a:t>
            </a:r>
            <a:r>
              <a:rPr b="1" lang="zh-CN" sz="4400" spc="-1" strike="noStrike">
                <a:solidFill>
                  <a:srgbClr val="333399"/>
                </a:solidFill>
                <a:latin typeface="Tahoma"/>
              </a:rPr>
              <a:t>广东省</a:t>
            </a:r>
            <a:br>
              <a:rPr sz="4400"/>
            </a:br>
            <a:r>
              <a:rPr b="1" lang="zh-CN" sz="4400" spc="-1" strike="noStrike">
                <a:solidFill>
                  <a:srgbClr val="333399"/>
                </a:solidFill>
                <a:latin typeface="Tahoma"/>
              </a:rPr>
              <a:t>临床</a:t>
            </a:r>
            <a:r>
              <a:rPr b="1" lang="en-US" sz="4400" spc="-1" strike="noStrike">
                <a:solidFill>
                  <a:srgbClr val="333399"/>
                </a:solidFill>
                <a:latin typeface="Tahoma"/>
              </a:rPr>
              <a:t>PCR</a:t>
            </a:r>
            <a:r>
              <a:rPr b="1" lang="zh-CN" sz="4400" spc="-1" strike="noStrike">
                <a:solidFill>
                  <a:srgbClr val="333399"/>
                </a:solidFill>
                <a:latin typeface="Tahoma"/>
              </a:rPr>
              <a:t>、地贫基因检测、</a:t>
            </a:r>
            <a:r>
              <a:rPr b="1" lang="en-US" sz="4400" spc="-1" strike="noStrike">
                <a:solidFill>
                  <a:srgbClr val="333399"/>
                </a:solidFill>
                <a:latin typeface="Tahoma"/>
              </a:rPr>
              <a:t>HPV</a:t>
            </a:r>
            <a:r>
              <a:rPr b="1" lang="zh-CN" sz="4400" spc="-1" strike="noStrike">
                <a:solidFill>
                  <a:srgbClr val="333399"/>
                </a:solidFill>
                <a:latin typeface="Tahoma"/>
              </a:rPr>
              <a:t>质量评价总结 </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广东省临床检验中心</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蒋 涛</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地贫基因检测试剂使用情况</a:t>
            </a:r>
            <a:endParaRPr b="0" lang="en-US" sz="4400" spc="-1" strike="noStrike">
              <a:solidFill>
                <a:srgbClr val="333399"/>
              </a:solidFill>
              <a:latin typeface="Tahoma"/>
            </a:endParaRPr>
          </a:p>
        </p:txBody>
      </p:sp>
      <p:graphicFrame>
        <p:nvGraphicFramePr>
          <p:cNvPr id="125" name=""/>
          <p:cNvGraphicFramePr/>
          <p:nvPr/>
        </p:nvGraphicFramePr>
        <p:xfrm>
          <a:off x="1182600" y="2017800"/>
          <a:ext cx="6818400" cy="3857400"/>
        </p:xfrm>
        <a:graphic>
          <a:graphicData uri="http://schemas.openxmlformats.org/drawingml/2006/table">
            <a:tbl>
              <a:tblPr/>
              <a:tblGrid>
                <a:gridCol w="2273400"/>
                <a:gridCol w="2271600"/>
                <a:gridCol w="2273400"/>
              </a:tblGrid>
              <a:tr h="7318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试 剂</a:t>
                      </a:r>
                      <a:endParaRPr b="0" lang="en-US" sz="24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实验室数</a:t>
                      </a:r>
                      <a:endParaRPr b="0" lang="en-US" sz="24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百分比</a:t>
                      </a:r>
                      <a:endParaRPr b="0" lang="en-US" sz="24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253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达安基因</a:t>
                      </a:r>
                      <a:endParaRPr b="0" lang="en-US" sz="24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3</a:t>
                      </a:r>
                      <a:endParaRPr b="0" lang="en-US" sz="24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3.3</a:t>
                      </a:r>
                      <a:endParaRPr b="0" lang="en-US" sz="24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238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深圳益生堂</a:t>
                      </a:r>
                      <a:endParaRPr b="0" lang="en-US" sz="24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16</a:t>
                      </a:r>
                      <a:endParaRPr b="0" lang="en-US" sz="24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17.4</a:t>
                      </a:r>
                      <a:endParaRPr b="0" lang="en-US" sz="24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256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亚能生物</a:t>
                      </a:r>
                      <a:endParaRPr b="0" lang="en-US" sz="24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40</a:t>
                      </a:r>
                      <a:endParaRPr b="0" lang="en-US" sz="24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43.5</a:t>
                      </a:r>
                      <a:endParaRPr b="0" lang="en-US" sz="24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253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潮州凯普</a:t>
                      </a:r>
                      <a:endParaRPr b="0" lang="en-US" sz="24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32</a:t>
                      </a:r>
                      <a:endParaRPr b="0" lang="en-US" sz="24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34.8</a:t>
                      </a:r>
                      <a:endParaRPr b="0" lang="en-US" sz="24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253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其他</a:t>
                      </a:r>
                      <a:endParaRPr b="0" lang="en-US" sz="24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1</a:t>
                      </a:r>
                      <a:endParaRPr b="0" lang="en-US" sz="24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1.1</a:t>
                      </a:r>
                      <a:endParaRPr b="0" lang="en-US" sz="24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PV</a:t>
            </a:r>
            <a:r>
              <a:rPr b="0" lang="zh-CN" sz="4400" spc="-1" strike="noStrike">
                <a:solidFill>
                  <a:srgbClr val="333399"/>
                </a:solidFill>
                <a:latin typeface="Tahoma"/>
              </a:rPr>
              <a:t>检测试剂使用情况</a:t>
            </a:r>
            <a:endParaRPr b="0" lang="en-US" sz="4400" spc="-1" strike="noStrike">
              <a:solidFill>
                <a:srgbClr val="333399"/>
              </a:solidFill>
              <a:latin typeface="Tahoma"/>
            </a:endParaRPr>
          </a:p>
        </p:txBody>
      </p:sp>
      <p:graphicFrame>
        <p:nvGraphicFramePr>
          <p:cNvPr id="127" name=""/>
          <p:cNvGraphicFramePr/>
          <p:nvPr/>
        </p:nvGraphicFramePr>
        <p:xfrm>
          <a:off x="1187280" y="1700280"/>
          <a:ext cx="6818400" cy="5302080"/>
        </p:xfrm>
        <a:graphic>
          <a:graphicData uri="http://schemas.openxmlformats.org/drawingml/2006/table">
            <a:tbl>
              <a:tblPr/>
              <a:tblGrid>
                <a:gridCol w="2273400"/>
                <a:gridCol w="2271960"/>
                <a:gridCol w="2273040"/>
              </a:tblGrid>
              <a:tr h="5889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达安</a:t>
                      </a:r>
                      <a:endParaRPr b="0" lang="en-US" sz="24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12</a:t>
                      </a:r>
                      <a:endParaRPr b="0" lang="en-US" sz="24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10.2</a:t>
                      </a:r>
                      <a:endParaRPr b="0" lang="en-US" sz="24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889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凯普</a:t>
                      </a:r>
                      <a:endParaRPr b="0" lang="en-US" sz="24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44</a:t>
                      </a:r>
                      <a:endParaRPr b="0" lang="en-US" sz="24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37.3</a:t>
                      </a:r>
                      <a:endParaRPr b="0" lang="en-US" sz="24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889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之江</a:t>
                      </a:r>
                      <a:endParaRPr b="0" lang="en-US" sz="24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4</a:t>
                      </a:r>
                      <a:endParaRPr b="0" lang="en-US" sz="24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3.4</a:t>
                      </a:r>
                      <a:endParaRPr b="0" lang="en-US" sz="24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889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港龙</a:t>
                      </a:r>
                      <a:endParaRPr b="0" lang="en-US" sz="24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5</a:t>
                      </a:r>
                      <a:endParaRPr b="0" lang="en-US" sz="24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4.2</a:t>
                      </a:r>
                      <a:endParaRPr b="0" lang="en-US" sz="24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904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亚能</a:t>
                      </a:r>
                      <a:endParaRPr b="0" lang="en-US" sz="24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30</a:t>
                      </a:r>
                      <a:endParaRPr b="0" lang="en-US" sz="24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25.4</a:t>
                      </a:r>
                      <a:endParaRPr b="0" lang="en-US" sz="24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889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安必平</a:t>
                      </a:r>
                      <a:endParaRPr b="0" lang="en-US" sz="24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3</a:t>
                      </a:r>
                      <a:endParaRPr b="0" lang="en-US" sz="24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2.5</a:t>
                      </a:r>
                      <a:endParaRPr b="0" lang="en-US" sz="24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889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圣湘</a:t>
                      </a:r>
                      <a:endParaRPr b="0" lang="en-US" sz="24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6</a:t>
                      </a:r>
                      <a:endParaRPr b="0" lang="en-US" sz="24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5.1</a:t>
                      </a:r>
                      <a:endParaRPr b="0" lang="en-US" sz="24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889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罗氏</a:t>
                      </a:r>
                      <a:endParaRPr b="0" lang="en-US" sz="24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3</a:t>
                      </a:r>
                      <a:endParaRPr b="0" lang="en-US" sz="24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2.5</a:t>
                      </a:r>
                      <a:endParaRPr b="0" lang="en-US" sz="24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889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其他</a:t>
                      </a:r>
                      <a:endParaRPr b="0" lang="en-US" sz="24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11</a:t>
                      </a:r>
                      <a:endParaRPr b="0" lang="en-US" sz="24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9.3</a:t>
                      </a:r>
                      <a:endParaRPr b="0" lang="en-US" sz="24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350720" y="71388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地中海贫血基因检测室内质控品</a:t>
            </a:r>
            <a:endParaRPr b="0" lang="en-US" sz="4000" spc="-1" strike="noStrike">
              <a:solidFill>
                <a:srgbClr val="333399"/>
              </a:solidFill>
              <a:latin typeface="Tahoma"/>
            </a:endParaRPr>
          </a:p>
        </p:txBody>
      </p:sp>
      <p:sp>
        <p:nvSpPr>
          <p:cNvPr id="129"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为了满足临床实验室的需求，广东省临床检验中心提供地中海贫血核酸质控品，此质控品以</a:t>
            </a:r>
            <a:r>
              <a:rPr b="0" lang="en-US" sz="3200" spc="-1" strike="noStrike">
                <a:solidFill>
                  <a:srgbClr val="000000"/>
                </a:solidFill>
                <a:latin typeface="Tahoma"/>
              </a:rPr>
              <a:t>EDTA</a:t>
            </a:r>
            <a:r>
              <a:rPr b="0" lang="zh-CN" sz="3200" spc="-1" strike="noStrike">
                <a:solidFill>
                  <a:srgbClr val="000000"/>
                </a:solidFill>
                <a:latin typeface="Tahoma"/>
              </a:rPr>
              <a:t>抗凝全血样本为原料，为地中海常见基因型，实验可以根据实际情况订购。</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单 价</a:t>
            </a:r>
            <a:r>
              <a:rPr b="1" lang="en-US" sz="3200" spc="-1" strike="noStrike">
                <a:solidFill>
                  <a:srgbClr val="000000"/>
                </a:solidFill>
                <a:latin typeface="Tahoma"/>
              </a:rPr>
              <a:t>80</a:t>
            </a:r>
            <a:r>
              <a:rPr b="1" lang="zh-CN" sz="3200" spc="-1" strike="noStrike">
                <a:solidFill>
                  <a:srgbClr val="000000"/>
                </a:solidFill>
                <a:latin typeface="Tahoma"/>
              </a:rPr>
              <a:t>元</a:t>
            </a:r>
            <a:r>
              <a:rPr b="1" lang="en-US" sz="3200" spc="-1" strike="noStrike">
                <a:solidFill>
                  <a:srgbClr val="000000"/>
                </a:solidFill>
                <a:latin typeface="Tahoma"/>
              </a:rPr>
              <a:t>/</a:t>
            </a:r>
            <a:r>
              <a:rPr b="1" lang="zh-CN" sz="3200" spc="-1" strike="noStrike">
                <a:solidFill>
                  <a:srgbClr val="000000"/>
                </a:solidFill>
                <a:latin typeface="Tahoma"/>
              </a:rPr>
              <a:t>管</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规格全血</a:t>
            </a:r>
            <a:r>
              <a:rPr b="1" lang="en-US" sz="3200" spc="-1" strike="noStrike">
                <a:solidFill>
                  <a:srgbClr val="000000"/>
                </a:solidFill>
                <a:latin typeface="Tahoma"/>
              </a:rPr>
              <a:t>0.5ml/</a:t>
            </a:r>
            <a:r>
              <a:rPr b="1" lang="zh-CN" sz="3200" spc="-1" strike="noStrike">
                <a:solidFill>
                  <a:srgbClr val="000000"/>
                </a:solidFill>
                <a:latin typeface="Tahoma"/>
              </a:rPr>
              <a:t>管</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00000" y="549000"/>
            <a:ext cx="77932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000" spc="-1" strike="noStrike">
                <a:solidFill>
                  <a:srgbClr val="333399"/>
                </a:solidFill>
                <a:latin typeface="Tahoma"/>
              </a:rPr>
              <a:t>SNP</a:t>
            </a:r>
            <a:r>
              <a:rPr b="0" lang="zh-CN" sz="4000" spc="-1" strike="noStrike">
                <a:solidFill>
                  <a:srgbClr val="333399"/>
                </a:solidFill>
                <a:latin typeface="Tahoma"/>
              </a:rPr>
              <a:t>、突变等定性检测质控品从哪来？</a:t>
            </a:r>
            <a:endParaRPr b="0" lang="en-US" sz="4000" spc="-1" strike="noStrike">
              <a:solidFill>
                <a:srgbClr val="333399"/>
              </a:solidFill>
              <a:latin typeface="Tahoma"/>
            </a:endParaRPr>
          </a:p>
        </p:txBody>
      </p:sp>
      <p:sp>
        <p:nvSpPr>
          <p:cNvPr id="131"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日常检验阳性样本的收集</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弱阳性质控品：浓度为试剂盒检测限</a:t>
            </a:r>
            <a:r>
              <a:rPr b="0" lang="en-US" sz="3200" spc="-1" strike="noStrike">
                <a:solidFill>
                  <a:srgbClr val="000000"/>
                </a:solidFill>
                <a:latin typeface="Tahoma"/>
              </a:rPr>
              <a:t>2-4</a:t>
            </a:r>
            <a:r>
              <a:rPr b="0" lang="zh-CN" sz="3200" spc="-1" strike="noStrike">
                <a:solidFill>
                  <a:srgbClr val="000000"/>
                </a:solidFill>
                <a:latin typeface="Tahoma"/>
              </a:rPr>
              <a:t>倍的样本</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较强阳性质控样本</a:t>
            </a:r>
            <a:r>
              <a:rPr b="1" lang="zh-CN"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阴性质控品：日常检验的阴性标本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第三方提供</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实验室申请验收流程</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仿宋_GB2312"/>
                <a:ea typeface="仿宋_GB2312"/>
              </a:rPr>
              <a:t>单位提出申请</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仿宋_GB2312"/>
                <a:ea typeface="仿宋_GB2312"/>
              </a:rPr>
              <a:t>验收申请表及复审申请表的样板可在广东省检验医学网下载：</a:t>
            </a:r>
            <a:r>
              <a:rPr b="0" lang="en-US" sz="3200" spc="-1" strike="noStrike">
                <a:solidFill>
                  <a:srgbClr val="000000"/>
                </a:solidFill>
                <a:latin typeface="仿宋_GB2312"/>
                <a:ea typeface="仿宋_GB2312"/>
              </a:rPr>
              <a:t>http:// gdccl.clinet.com.cn</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仿宋_GB2312"/>
                <a:ea typeface="仿宋_GB2312"/>
              </a:rPr>
              <a:t>并在实验室咨询时详细介绍验收中应注意的问题。</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实验室验收程序</a:t>
            </a:r>
            <a:endParaRPr b="0" lang="en-US" sz="3600" spc="-1" strike="noStrike">
              <a:solidFill>
                <a:srgbClr val="333399"/>
              </a:solidFill>
              <a:latin typeface="Tahoma"/>
            </a:endParaRPr>
          </a:p>
        </p:txBody>
      </p:sp>
      <p:sp>
        <p:nvSpPr>
          <p:cNvPr id="135" name="PlaceHolder 2"/>
          <p:cNvSpPr>
            <a:spLocks noGrp="1"/>
          </p:cNvSpPr>
          <p:nvPr>
            <p:ph/>
          </p:nvPr>
        </p:nvSpPr>
        <p:spPr>
          <a:xfrm>
            <a:off x="755640" y="2017800"/>
            <a:ext cx="8199360" cy="4114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提前将验收通知及验收日程安排及现场考核样本快递至实验室。</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现场验收：组织三至四名专家现场验收</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验收结论：合格、基本合格、不合格。</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实验室验收流程</a:t>
            </a:r>
            <a:endParaRPr b="0" lang="en-US" sz="4400" spc="-1" strike="noStrike">
              <a:solidFill>
                <a:srgbClr val="333399"/>
              </a:solidFill>
              <a:latin typeface="Tahoma"/>
            </a:endParaRPr>
          </a:p>
        </p:txBody>
      </p:sp>
      <p:sp>
        <p:nvSpPr>
          <p:cNvPr id="137" name=""/>
          <p:cNvSpPr txBox="1"/>
          <p:nvPr/>
        </p:nvSpPr>
        <p:spPr>
          <a:xfrm>
            <a:off x="1182600" y="2017800"/>
            <a:ext cx="7772400" cy="4114800"/>
          </a:xfrm>
          <a:prstGeom prst="rect">
            <a:avLst/>
          </a:prstGeom>
          <a:noFill/>
          <a:ln w="0">
            <a:noFill/>
          </a:ln>
        </p:spPr>
        <p:txBody>
          <a:bodyPr anchor="t">
            <a:normAutofit/>
          </a:bodyPr>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仿宋_GB2312"/>
              </a:rPr>
              <a:t>不符合项整改</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仿宋_GB2312"/>
              </a:rPr>
              <a:t>合格报告发放</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仿宋_GB2312"/>
              </a:rPr>
              <a:t>合格名单报省卫健委备案</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个别实验室豁免验收</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PCR</a:t>
            </a:r>
            <a:r>
              <a:rPr b="1" lang="zh-CN" sz="4400" spc="-1" strike="noStrike">
                <a:solidFill>
                  <a:srgbClr val="333399"/>
                </a:solidFill>
                <a:latin typeface="Tahoma"/>
              </a:rPr>
              <a:t>实验室验收情况</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广东省截止</a:t>
            </a:r>
            <a:r>
              <a:rPr b="0" lang="en-US" sz="2800" spc="-1" strike="noStrike">
                <a:solidFill>
                  <a:srgbClr val="000000"/>
                </a:solidFill>
                <a:latin typeface="Tahoma"/>
              </a:rPr>
              <a:t>2019</a:t>
            </a:r>
            <a:r>
              <a:rPr b="0" lang="zh-CN" sz="2800" spc="-1" strike="noStrike">
                <a:solidFill>
                  <a:srgbClr val="000000"/>
                </a:solidFill>
                <a:latin typeface="Tahoma"/>
              </a:rPr>
              <a:t>年</a:t>
            </a:r>
            <a:r>
              <a:rPr b="0" lang="en-US" sz="2800" spc="-1" strike="noStrike">
                <a:solidFill>
                  <a:srgbClr val="000000"/>
                </a:solidFill>
                <a:latin typeface="Tahoma"/>
              </a:rPr>
              <a:t>2</a:t>
            </a:r>
            <a:r>
              <a:rPr b="0" lang="zh-CN" sz="2800" spc="-1" strike="noStrike">
                <a:solidFill>
                  <a:srgbClr val="000000"/>
                </a:solidFill>
                <a:latin typeface="Tahoma"/>
              </a:rPr>
              <a:t>月</a:t>
            </a:r>
            <a:r>
              <a:rPr b="0" lang="en-US" sz="2800" spc="-1" strike="noStrike">
                <a:solidFill>
                  <a:srgbClr val="000000"/>
                </a:solidFill>
                <a:latin typeface="Tahoma"/>
              </a:rPr>
              <a:t>1</a:t>
            </a:r>
            <a:r>
              <a:rPr b="0" lang="zh-CN" sz="2800" spc="-1" strike="noStrike">
                <a:solidFill>
                  <a:srgbClr val="000000"/>
                </a:solidFill>
                <a:latin typeface="Tahoma"/>
              </a:rPr>
              <a:t>日共验收</a:t>
            </a:r>
            <a:r>
              <a:rPr b="0" lang="en-US" sz="2800" spc="-1" strike="noStrike">
                <a:solidFill>
                  <a:srgbClr val="000000"/>
                </a:solidFill>
                <a:latin typeface="Tahoma"/>
              </a:rPr>
              <a:t>PCR</a:t>
            </a:r>
            <a:r>
              <a:rPr b="0" lang="zh-CN" sz="2800" spc="-1" strike="noStrike">
                <a:solidFill>
                  <a:srgbClr val="000000"/>
                </a:solidFill>
                <a:latin typeface="Tahoma"/>
              </a:rPr>
              <a:t>实验室</a:t>
            </a:r>
            <a:r>
              <a:rPr b="0" lang="en-US" sz="2800" spc="-1" strike="noStrike">
                <a:solidFill>
                  <a:srgbClr val="000000"/>
                </a:solidFill>
                <a:latin typeface="Tahoma"/>
              </a:rPr>
              <a:t>367</a:t>
            </a:r>
            <a:r>
              <a:rPr b="0" lang="zh-CN" sz="2800" spc="-1" strike="noStrike">
                <a:solidFill>
                  <a:srgbClr val="000000"/>
                </a:solidFill>
                <a:latin typeface="Tahoma"/>
              </a:rPr>
              <a:t>间 ，有三间未通过。部分实验室第三次验收，十间实验室第一次验收未通过，第二次通过，八间实验室豁免验收。其中中心实验室、：</a:t>
            </a:r>
            <a:r>
              <a:rPr b="0" lang="en-US" sz="2800" spc="-1" strike="noStrike">
                <a:solidFill>
                  <a:srgbClr val="000000"/>
                </a:solidFill>
                <a:latin typeface="Tahoma"/>
              </a:rPr>
              <a:t>44</a:t>
            </a:r>
            <a:r>
              <a:rPr b="0" lang="zh-CN" sz="2800" spc="-1" strike="noStrike">
                <a:solidFill>
                  <a:srgbClr val="000000"/>
                </a:solidFill>
                <a:latin typeface="Tahoma"/>
              </a:rPr>
              <a:t>间，病理科</a:t>
            </a:r>
            <a:r>
              <a:rPr b="0" lang="en-US" sz="2800" spc="-1" strike="noStrike">
                <a:solidFill>
                  <a:srgbClr val="000000"/>
                </a:solidFill>
                <a:latin typeface="Tahoma"/>
              </a:rPr>
              <a:t>11</a:t>
            </a:r>
            <a:r>
              <a:rPr b="0" lang="zh-CN" sz="2800" spc="-1" strike="noStrike">
                <a:solidFill>
                  <a:srgbClr val="000000"/>
                </a:solidFill>
                <a:latin typeface="Tahoma"/>
              </a:rPr>
              <a:t>间，第三方独立实验室、私立医院</a:t>
            </a:r>
            <a:r>
              <a:rPr b="0" lang="en-US" sz="2800" spc="-1" strike="noStrike">
                <a:solidFill>
                  <a:srgbClr val="000000"/>
                </a:solidFill>
                <a:latin typeface="Tahoma"/>
              </a:rPr>
              <a:t>71</a:t>
            </a:r>
            <a:r>
              <a:rPr b="0" lang="zh-CN" sz="2800" spc="-1" strike="noStrike">
                <a:solidFill>
                  <a:srgbClr val="000000"/>
                </a:solidFill>
                <a:latin typeface="Tahoma"/>
              </a:rPr>
              <a:t>间，妇幼计生系统</a:t>
            </a:r>
            <a:r>
              <a:rPr b="0" lang="en-US" sz="2800" spc="-1" strike="noStrike">
                <a:solidFill>
                  <a:srgbClr val="000000"/>
                </a:solidFill>
                <a:latin typeface="Tahoma"/>
              </a:rPr>
              <a:t>47</a:t>
            </a:r>
            <a:r>
              <a:rPr b="0" lang="zh-CN" sz="2800" spc="-1" strike="noStrike">
                <a:solidFill>
                  <a:srgbClr val="000000"/>
                </a:solidFill>
                <a:latin typeface="Tahoma"/>
              </a:rPr>
              <a:t>家，</a:t>
            </a:r>
            <a:r>
              <a:rPr b="0" lang="en-US" sz="2800" spc="-1" strike="noStrike">
                <a:solidFill>
                  <a:srgbClr val="000000"/>
                </a:solidFill>
                <a:latin typeface="Tahoma"/>
              </a:rPr>
              <a:t>4</a:t>
            </a:r>
            <a:r>
              <a:rPr b="0" lang="zh-CN" sz="2800" spc="-1" strike="noStrike">
                <a:solidFill>
                  <a:srgbClr val="000000"/>
                </a:solidFill>
                <a:latin typeface="Tahoma"/>
              </a:rPr>
              <a:t>家为采供血机构、脐血库。</a:t>
            </a:r>
            <a:r>
              <a:rPr b="0" lang="en-US" sz="2800" spc="-1" strike="noStrike">
                <a:solidFill>
                  <a:srgbClr val="000000"/>
                </a:solidFill>
                <a:latin typeface="Tahoma"/>
              </a:rPr>
              <a:t>16</a:t>
            </a:r>
            <a:r>
              <a:rPr b="0" lang="zh-CN" sz="2800" spc="-1" strike="noStrike">
                <a:solidFill>
                  <a:srgbClr val="000000"/>
                </a:solidFill>
                <a:latin typeface="Tahoma"/>
              </a:rPr>
              <a:t>届培训班共授予</a:t>
            </a:r>
            <a:r>
              <a:rPr b="0" lang="en-US" sz="2800" spc="-1" strike="noStrike">
                <a:solidFill>
                  <a:srgbClr val="000000"/>
                </a:solidFill>
                <a:latin typeface="Tahoma"/>
              </a:rPr>
              <a:t>4754</a:t>
            </a:r>
            <a:r>
              <a:rPr b="0" lang="zh-CN" sz="2800" spc="-1" strike="noStrike">
                <a:solidFill>
                  <a:srgbClr val="000000"/>
                </a:solidFill>
                <a:latin typeface="Tahoma"/>
              </a:rPr>
              <a:t>人上岗证。</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实验室验收情况</a:t>
            </a:r>
            <a:endParaRPr b="0" lang="en-US" sz="4400" spc="-1" strike="noStrike">
              <a:solidFill>
                <a:srgbClr val="333399"/>
              </a:solidFill>
              <a:latin typeface="Tahoma"/>
            </a:endParaRPr>
          </a:p>
        </p:txBody>
      </p:sp>
      <p:sp>
        <p:nvSpPr>
          <p:cNvPr id="141"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为了解决实验室工作人员内、外部培训问题，近几年无条件接受</a:t>
            </a:r>
            <a:r>
              <a:rPr b="0" lang="en-US" sz="3200" spc="-1" strike="noStrike">
                <a:solidFill>
                  <a:srgbClr val="000000"/>
                </a:solidFill>
                <a:latin typeface="Tahoma"/>
              </a:rPr>
              <a:t>50</a:t>
            </a:r>
            <a:r>
              <a:rPr b="0" lang="zh-CN" sz="3200" spc="-1" strike="noStrike">
                <a:solidFill>
                  <a:srgbClr val="000000"/>
                </a:solidFill>
                <a:latin typeface="Tahoma"/>
              </a:rPr>
              <a:t>余名基层工作人员在培训基地：</a:t>
            </a:r>
            <a:r>
              <a:rPr b="0" lang="zh-CN" sz="3200" spc="-1" strike="noStrike">
                <a:solidFill>
                  <a:srgbClr val="000000"/>
                </a:solidFill>
                <a:latin typeface="仿宋_GB2312"/>
                <a:ea typeface="仿宋_GB2312"/>
              </a:rPr>
              <a:t>广州珠江医院医学检验中心、中山大学肿瘤防治中心分子诊断科接受免费培训。</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仿宋_GB2312"/>
                <a:ea typeface="仿宋_GB2312"/>
              </a:rPr>
              <a:t>部分实验室初次审核后，检验项目减少，实验室工作人员更换，出现了新的不符合项。</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验收中发现实验室曾经出现的污染问题</a:t>
            </a:r>
            <a:endParaRPr b="0" lang="en-US" sz="4400" spc="-1" strike="noStrike">
              <a:solidFill>
                <a:srgbClr val="333399"/>
              </a:solidFill>
              <a:latin typeface="Tahoma"/>
            </a:endParaRPr>
          </a:p>
        </p:txBody>
      </p:sp>
      <p:sp>
        <p:nvSpPr>
          <p:cNvPr id="143"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验收过程中发现实验流程存在缺陷：在样本制备区发报告违反了单一流程的规则；实验室应加强对实习生的管理；各区应加装悬挂式紫外灯，用带滤芯的吸头；阳模应存于样本制备区，试剂盒不能拆开存储。实验室应加强人员的内部和外部培训，规范结果判读和室内质量控制。</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宋体"/>
              </a:rPr>
              <a:t>各次实验室回报情况见下表</a:t>
            </a:r>
            <a:endParaRPr b="0" lang="en-US" sz="4000" spc="-1" strike="noStrike">
              <a:solidFill>
                <a:srgbClr val="333399"/>
              </a:solidFill>
              <a:latin typeface="Tahoma"/>
            </a:endParaRPr>
          </a:p>
        </p:txBody>
      </p:sp>
      <p:graphicFrame>
        <p:nvGraphicFramePr>
          <p:cNvPr id="109" name=""/>
          <p:cNvGraphicFramePr/>
          <p:nvPr/>
        </p:nvGraphicFramePr>
        <p:xfrm>
          <a:off x="755640" y="2492280"/>
          <a:ext cx="7988400" cy="3097440"/>
        </p:xfrm>
        <a:graphic>
          <a:graphicData uri="http://schemas.openxmlformats.org/drawingml/2006/table">
            <a:tbl>
              <a:tblPr/>
              <a:tblGrid>
                <a:gridCol w="1079640"/>
                <a:gridCol w="1008000"/>
                <a:gridCol w="1224000"/>
                <a:gridCol w="869760"/>
                <a:gridCol w="992160"/>
                <a:gridCol w="725760"/>
                <a:gridCol w="1008000"/>
                <a:gridCol w="1081080"/>
              </a:tblGrid>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批号</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项目</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发放</a:t>
                      </a:r>
                      <a:endParaRPr b="0" lang="en-US" sz="20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样本数</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回报数</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批号</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项目</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发放</a:t>
                      </a:r>
                      <a:endParaRPr b="0" lang="en-US" sz="20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样本数</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回报数</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201801</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  </a:t>
                      </a:r>
                      <a:endParaRPr b="0" lang="en-US" sz="20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  </a:t>
                      </a:r>
                      <a:r>
                        <a:rPr b="0" lang="en-US" sz="2000" spc="-1" strike="noStrike">
                          <a:solidFill>
                            <a:srgbClr val="000000"/>
                          </a:solidFill>
                          <a:latin typeface="仿宋_GB2312"/>
                          <a:ea typeface="仿宋_GB2312"/>
                        </a:rPr>
                        <a:t>HBV</a:t>
                      </a:r>
                      <a:r>
                        <a:rPr b="0" lang="zh-CN" sz="2000" spc="-1" strike="noStrike">
                          <a:solidFill>
                            <a:srgbClr val="000000"/>
                          </a:solidFill>
                          <a:latin typeface="仿宋_GB2312"/>
                          <a:ea typeface="仿宋_GB2312"/>
                        </a:rPr>
                        <a:t>、</a:t>
                      </a:r>
                      <a:r>
                        <a:rPr b="0" lang="en-US" sz="2000" spc="-1" strike="noStrike">
                          <a:solidFill>
                            <a:srgbClr val="000000"/>
                          </a:solidFill>
                          <a:latin typeface="仿宋_GB2312"/>
                          <a:ea typeface="仿宋_GB2312"/>
                        </a:rPr>
                        <a:t>HCV</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rowSpan="5">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206</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81</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201801</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地贫</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11</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92</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row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201802</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77</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201802</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97</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0">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77</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201801</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HPV</a:t>
                      </a:r>
                      <a:endParaRPr b="0" lang="en-US" sz="20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51</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19</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1560">
                <a:tc row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201803</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703800">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201802</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2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验收中发现实验室曾经出现的污染问题</a:t>
            </a:r>
            <a:endParaRPr b="0" lang="en-US" sz="4400" spc="-1" strike="noStrike">
              <a:solidFill>
                <a:srgbClr val="333399"/>
              </a:solidFill>
              <a:latin typeface="Tahoma"/>
            </a:endParaRPr>
          </a:p>
        </p:txBody>
      </p:sp>
      <p:sp>
        <p:nvSpPr>
          <p:cNvPr id="145"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实验室的清洁工人压缩垃圾造成扩增管破裂，产物污染。</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排气扇装反</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实验室密闭，容易污染，开窗通风。</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偶尔标本间污染。</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研究生管理问题。</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检测方法</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仿宋_GB2312"/>
              </a:rPr>
              <a:t>SOP</a:t>
            </a:r>
            <a:r>
              <a:rPr b="0" lang="zh-CN" sz="2800" spc="-1" strike="noStrike">
                <a:solidFill>
                  <a:srgbClr val="000000"/>
                </a:solidFill>
                <a:latin typeface="仿宋_GB2312"/>
                <a:ea typeface="仿宋_GB2312"/>
              </a:rPr>
              <a:t>文件可操作性、实验流程的优化。</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每批次、每项目检测均应做阳性、阴性、空白对照，定量试验应做标准曲线。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试剂需质检并有记录。试剂质检时需有新旧批号试剂的比对。</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质量控制</a:t>
            </a: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应加强室内质量控制知识的学习，按实际工作完善室内质控</a:t>
            </a:r>
            <a:r>
              <a:rPr b="0" lang="en-US" sz="2800" spc="-1" strike="noStrike">
                <a:solidFill>
                  <a:srgbClr val="000000"/>
                </a:solidFill>
                <a:latin typeface="仿宋_GB2312"/>
                <a:ea typeface="仿宋_GB2312"/>
              </a:rPr>
              <a:t>SOP</a:t>
            </a:r>
            <a:r>
              <a:rPr b="0" lang="zh-CN" sz="2800" spc="-1" strike="noStrike">
                <a:solidFill>
                  <a:srgbClr val="000000"/>
                </a:solidFill>
                <a:latin typeface="仿宋_GB2312"/>
                <a:ea typeface="仿宋_GB2312"/>
              </a:rPr>
              <a:t>，并严格按</a:t>
            </a:r>
            <a:r>
              <a:rPr b="0" lang="en-US" sz="2800" spc="-1" strike="noStrike">
                <a:solidFill>
                  <a:srgbClr val="000000"/>
                </a:solidFill>
                <a:latin typeface="仿宋_GB2312"/>
                <a:ea typeface="仿宋_GB2312"/>
              </a:rPr>
              <a:t>SOP</a:t>
            </a:r>
            <a:r>
              <a:rPr b="0" lang="zh-CN" sz="2800" spc="-1" strike="noStrike">
                <a:solidFill>
                  <a:srgbClr val="000000"/>
                </a:solidFill>
                <a:latin typeface="仿宋_GB2312"/>
                <a:ea typeface="仿宋_GB2312"/>
              </a:rPr>
              <a:t>进行室内质控。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室内质量控制应发挥其监测结果发放的作用。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应设置临界浓度室内质控，防止低浓度样品漏检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应认真对待室间质评样本，按时回报质评结果。</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所有项目应参加卫生部和省的室间质评，如卫生部和省没有开展的项目应进行实验室间比对。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设备管理</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仿宋_GB2312"/>
              </a:rPr>
              <a:t>主要设备有完整的技术档案。</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仿宋_GB2312"/>
              </a:rPr>
              <a:t>加样器、温度计、扩增仪应校准并有标准标识。</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仿宋_GB2312"/>
              </a:rPr>
              <a:t>加强仪器的维护保养。</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仿宋_GB2312"/>
              </a:rPr>
              <a:t>处理遗传性和病原性样本时应分开生物安全柜。</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仿宋_GB2312"/>
              </a:rPr>
              <a:t>全自动、半自动核酸提取仪的应用。</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报告</a:t>
            </a:r>
            <a:endParaRPr b="0" lang="en-US" sz="4400" spc="-1" strike="noStrike">
              <a:solidFill>
                <a:srgbClr val="333399"/>
              </a:solidFill>
              <a:latin typeface="Tahoma"/>
            </a:endParaRPr>
          </a:p>
        </p:txBody>
      </p:sp>
      <p:sp>
        <p:nvSpPr>
          <p:cNvPr id="153"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定性试验不能报定量结果</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检测者和审核者不应为同一人</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检测下限应按试剂盒要求</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结果单位应和试剂盒一致</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设施与环境</a:t>
            </a: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密闭实验室应有新风系统。无基因或无核酸概念的重要性。</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各区没有完全隔断。应配备稳压电源。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完善生物防护措施配备相应用具。生理盐水分装使用。应使用无粉末手套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非本实验室人员进出应加以限制，做好人员进出登记。</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实验室应有有关生物污染物处理，避免重复使用杂交管。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实验室设置和设备</a:t>
            </a: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按最新规范紫外照射应延长时间，最好照射过夜 。并对紫外灯的效能进行验证。</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仿宋_GB2312"/>
              </a:rPr>
              <a:t>PCR</a:t>
            </a:r>
            <a:r>
              <a:rPr b="0" lang="zh-CN" sz="2800" spc="-1" strike="noStrike">
                <a:solidFill>
                  <a:srgbClr val="000000"/>
                </a:solidFill>
                <a:latin typeface="仿宋_GB2312"/>
                <a:ea typeface="仿宋_GB2312"/>
              </a:rPr>
              <a:t>扩增仪应放置在扩增区，而非产物分析区。</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实验室需安装悬挂式紫外灯</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加样本时使用带滤芯的吸头 </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人员</a:t>
            </a:r>
            <a:endParaRPr b="0" lang="en-US" sz="4400" spc="-1" strike="noStrike">
              <a:solidFill>
                <a:srgbClr val="333399"/>
              </a:solidFill>
              <a:latin typeface="Tahoma"/>
            </a:endParaRPr>
          </a:p>
        </p:txBody>
      </p:sp>
      <p:sp>
        <p:nvSpPr>
          <p:cNvPr id="15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加强人员培训工作制定培训计划。</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实验室派工作人员在我省</a:t>
            </a:r>
            <a:r>
              <a:rPr b="0" lang="en-US" sz="2800" spc="-1" strike="noStrike">
                <a:solidFill>
                  <a:srgbClr val="000000"/>
                </a:solidFill>
                <a:latin typeface="仿宋_GB2312"/>
                <a:ea typeface="仿宋_GB2312"/>
              </a:rPr>
              <a:t>PCR</a:t>
            </a:r>
            <a:r>
              <a:rPr b="0" lang="zh-CN" sz="2800" spc="-1" strike="noStrike">
                <a:solidFill>
                  <a:srgbClr val="000000"/>
                </a:solidFill>
                <a:latin typeface="仿宋_GB2312"/>
                <a:ea typeface="仿宋_GB2312"/>
              </a:rPr>
              <a:t>培训基地之一的广州珠江医院检验医学部临床基因扩增检验实验室培训考核。</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从事个体化检测的培训基地中山大学肿瘤防治中心分子诊断科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完善人员技术档案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记录</a:t>
            </a:r>
            <a:endParaRPr b="0" lang="en-US" sz="4400" spc="-1" strike="noStrike">
              <a:solidFill>
                <a:srgbClr val="333399"/>
              </a:solidFill>
              <a:latin typeface="Tahoma"/>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实验流程记录应真实反应实验过程并起到管理各环节的作用。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检测结果的原始记录应打印并妥善保管。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各区应放置相应</a:t>
            </a:r>
            <a:r>
              <a:rPr b="0" lang="en-US" sz="2800" spc="-1" strike="noStrike">
                <a:solidFill>
                  <a:srgbClr val="000000"/>
                </a:solidFill>
                <a:latin typeface="仿宋_GB2312"/>
                <a:ea typeface="仿宋_GB2312"/>
              </a:rPr>
              <a:t>SOP</a:t>
            </a:r>
            <a:r>
              <a:rPr b="0" lang="zh-CN" sz="2800" spc="-1" strike="noStrike">
                <a:solidFill>
                  <a:srgbClr val="000000"/>
                </a:solidFill>
                <a:latin typeface="仿宋_GB2312"/>
                <a:ea typeface="仿宋_GB2312"/>
              </a:rPr>
              <a:t>，便于使用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复审注意事项</a:t>
            </a: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实验室的验收合格证五年有效期</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实验室的相关记录的完整性</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对初审时不符合项的整改</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生物安全柜的配置</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人员的培训 </a:t>
            </a:r>
            <a:endParaRPr b="0" lang="en-US" sz="2800" spc="-1" strike="noStrike">
              <a:solidFill>
                <a:srgbClr val="000000"/>
              </a:solidFill>
              <a:latin typeface="Tahoma"/>
            </a:endParaRPr>
          </a:p>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质量控制</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2018HBV</a:t>
            </a:r>
            <a:r>
              <a:rPr b="1" lang="zh-CN" sz="4000" spc="-1" strike="noStrike">
                <a:solidFill>
                  <a:srgbClr val="333399"/>
                </a:solidFill>
                <a:latin typeface="Tahoma"/>
              </a:rPr>
              <a:t>、</a:t>
            </a:r>
            <a:r>
              <a:rPr b="1" lang="en-US" sz="4000" spc="-1" strike="noStrike">
                <a:solidFill>
                  <a:srgbClr val="333399"/>
                </a:solidFill>
                <a:latin typeface="Tahoma"/>
              </a:rPr>
              <a:t>HCV</a:t>
            </a:r>
            <a:r>
              <a:rPr b="1" lang="zh-CN" sz="4000" spc="-1" strike="noStrike">
                <a:solidFill>
                  <a:srgbClr val="333399"/>
                </a:solidFill>
                <a:latin typeface="Tahoma"/>
              </a:rPr>
              <a:t>定性汇总</a:t>
            </a:r>
            <a:endParaRPr b="0" lang="en-US" sz="4000" spc="-1" strike="noStrike">
              <a:solidFill>
                <a:srgbClr val="333399"/>
              </a:solidFill>
              <a:latin typeface="Tahoma"/>
            </a:endParaRPr>
          </a:p>
        </p:txBody>
      </p:sp>
      <p:graphicFrame>
        <p:nvGraphicFramePr>
          <p:cNvPr id="111" name=""/>
          <p:cNvGraphicFramePr/>
          <p:nvPr/>
        </p:nvGraphicFramePr>
        <p:xfrm>
          <a:off x="826920" y="2017800"/>
          <a:ext cx="7490160" cy="3504960"/>
        </p:xfrm>
        <a:graphic>
          <a:graphicData uri="http://schemas.openxmlformats.org/drawingml/2006/table">
            <a:tbl>
              <a:tblPr/>
              <a:tblGrid>
                <a:gridCol w="1368720"/>
                <a:gridCol w="1439640"/>
                <a:gridCol w="1513080"/>
                <a:gridCol w="1655640"/>
                <a:gridCol w="1513080"/>
              </a:tblGrid>
              <a:tr h="7635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项目名称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总实验室数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00</a:t>
                      </a:r>
                      <a:r>
                        <a:rPr b="0" lang="zh-CN" sz="2000" spc="-1" strike="noStrike">
                          <a:solidFill>
                            <a:srgbClr val="000000"/>
                          </a:solidFill>
                          <a:latin typeface="仿宋_GB2312"/>
                          <a:ea typeface="仿宋_GB2312"/>
                        </a:rPr>
                        <a:t>比例</a:t>
                      </a:r>
                      <a:r>
                        <a:rPr b="0" lang="en-US" sz="2000" spc="-1" strike="noStrike">
                          <a:solidFill>
                            <a:srgbClr val="000000"/>
                          </a:solidFill>
                          <a:latin typeface="仿宋_GB2312"/>
                          <a:ea typeface="仿宋_GB2312"/>
                        </a:rPr>
                        <a:t>%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gt;=80</a:t>
                      </a:r>
                      <a:r>
                        <a:rPr b="0" lang="zh-CN" sz="2000" spc="-1" strike="noStrike">
                          <a:solidFill>
                            <a:srgbClr val="000000"/>
                          </a:solidFill>
                          <a:latin typeface="仿宋_GB2312"/>
                          <a:ea typeface="仿宋_GB2312"/>
                        </a:rPr>
                        <a:t>比例</a:t>
                      </a:r>
                      <a:r>
                        <a:rPr b="0" lang="en-US" sz="2000" spc="-1" strike="noStrike">
                          <a:solidFill>
                            <a:srgbClr val="000000"/>
                          </a:solidFill>
                          <a:latin typeface="仿宋_GB2312"/>
                          <a:ea typeface="仿宋_GB2312"/>
                        </a:rPr>
                        <a:t>%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lt;80</a:t>
                      </a:r>
                      <a:r>
                        <a:rPr b="0" lang="zh-CN" sz="2000" spc="-1" strike="noStrike">
                          <a:solidFill>
                            <a:srgbClr val="000000"/>
                          </a:solidFill>
                          <a:latin typeface="仿宋_GB2312"/>
                          <a:ea typeface="仿宋_GB2312"/>
                        </a:rPr>
                        <a:t>比例</a:t>
                      </a:r>
                      <a:r>
                        <a:rPr b="0" lang="en-US" sz="2000" spc="-1" strike="noStrike">
                          <a:solidFill>
                            <a:srgbClr val="000000"/>
                          </a:solidFill>
                          <a:latin typeface="仿宋_GB2312"/>
                          <a:ea typeface="仿宋_GB2312"/>
                        </a:rPr>
                        <a:t>% </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9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801HBV</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46</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801HCV</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57</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98.2</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8</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62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802HBV</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44</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99.3</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0.7</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802HCV</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58</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803HBV</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44</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97.9</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0.7</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4</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803HCV</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58</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98.3</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7</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示范实验室</a:t>
            </a:r>
            <a:endParaRPr b="0" lang="en-US" sz="44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广州医学院附二院</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深圳市人民医院</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佛山禅城区中心医院</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英德市人民医院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广州珠江医院医学检验中心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深圳市横岗人民医院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北京大学深圳医院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广东省人民医院病理科</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中山大学肿瘤防治中心分子诊断科</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珠海市人民医院</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实验培训情况</a:t>
            </a:r>
            <a:endParaRPr b="0" lang="en-US" sz="4400" spc="-1" strike="noStrike">
              <a:solidFill>
                <a:srgbClr val="333399"/>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培训地点：广州珠江医院检验医学部临床基因扩增检验实验室  广州市工业大道中</a:t>
            </a:r>
            <a:r>
              <a:rPr b="0" lang="en-US" sz="2800" spc="-1" strike="noStrike">
                <a:solidFill>
                  <a:srgbClr val="000000"/>
                </a:solidFill>
                <a:latin typeface="仿宋_GB2312"/>
                <a:ea typeface="仿宋_GB2312"/>
              </a:rPr>
              <a:t>253</a:t>
            </a:r>
            <a:r>
              <a:rPr b="0" lang="zh-CN" sz="2800" spc="-1" strike="noStrike">
                <a:solidFill>
                  <a:srgbClr val="000000"/>
                </a:solidFill>
                <a:latin typeface="仿宋_GB2312"/>
                <a:ea typeface="仿宋_GB2312"/>
              </a:rPr>
              <a:t>号珠江医院门诊</a:t>
            </a:r>
            <a:r>
              <a:rPr b="0" lang="en-US" sz="2800" spc="-1" strike="noStrike">
                <a:solidFill>
                  <a:srgbClr val="000000"/>
                </a:solidFill>
                <a:latin typeface="仿宋_GB2312"/>
                <a:ea typeface="仿宋_GB2312"/>
              </a:rPr>
              <a:t>8</a:t>
            </a:r>
            <a:r>
              <a:rPr b="0" lang="zh-CN" sz="2800" spc="-1" strike="noStrike">
                <a:solidFill>
                  <a:srgbClr val="000000"/>
                </a:solidFill>
                <a:latin typeface="仿宋_GB2312"/>
                <a:ea typeface="仿宋_GB2312"/>
              </a:rPr>
              <a:t>楼、</a:t>
            </a:r>
            <a:r>
              <a:rPr b="0" lang="en-US" sz="2800" spc="-1" strike="noStrike">
                <a:solidFill>
                  <a:srgbClr val="000000"/>
                </a:solidFill>
                <a:latin typeface="仿宋_GB2312"/>
                <a:ea typeface="仿宋_GB2312"/>
              </a:rPr>
              <a:t>9</a:t>
            </a:r>
            <a:r>
              <a:rPr b="0" lang="zh-CN" sz="2800" spc="-1" strike="noStrike">
                <a:solidFill>
                  <a:srgbClr val="000000"/>
                </a:solidFill>
                <a:latin typeface="仿宋_GB2312"/>
                <a:ea typeface="仿宋_GB2312"/>
              </a:rPr>
              <a:t>楼</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WordArt 2"/>
          <p:cNvSpPr txBox="1"/>
          <p:nvPr/>
        </p:nvSpPr>
        <p:spPr>
          <a:xfrm>
            <a:off x="2627280" y="1916280"/>
            <a:ext cx="3457440" cy="20304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谢谢！</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2018</a:t>
            </a:r>
            <a:r>
              <a:rPr b="1" lang="zh-CN" sz="4400" spc="-1" strike="noStrike">
                <a:solidFill>
                  <a:srgbClr val="333399"/>
                </a:solidFill>
                <a:latin typeface="Tahoma"/>
              </a:rPr>
              <a:t>定量汇总</a:t>
            </a:r>
            <a:endParaRPr b="0" lang="en-US" sz="4400" spc="-1" strike="noStrike">
              <a:solidFill>
                <a:srgbClr val="333399"/>
              </a:solidFill>
              <a:latin typeface="Tahoma"/>
            </a:endParaRPr>
          </a:p>
        </p:txBody>
      </p:sp>
      <p:graphicFrame>
        <p:nvGraphicFramePr>
          <p:cNvPr id="113" name=""/>
          <p:cNvGraphicFramePr/>
          <p:nvPr/>
        </p:nvGraphicFramePr>
        <p:xfrm>
          <a:off x="826920" y="2276640"/>
          <a:ext cx="7490160" cy="3736800"/>
        </p:xfrm>
        <a:graphic>
          <a:graphicData uri="http://schemas.openxmlformats.org/drawingml/2006/table">
            <a:tbl>
              <a:tblPr/>
              <a:tblGrid>
                <a:gridCol w="1513080"/>
                <a:gridCol w="1295280"/>
                <a:gridCol w="1513080"/>
                <a:gridCol w="1655640"/>
                <a:gridCol w="1513080"/>
              </a:tblGrid>
              <a:tr h="701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项目名称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总实验室数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00</a:t>
                      </a:r>
                      <a:r>
                        <a:rPr b="0" lang="zh-CN" sz="2000" spc="-1" strike="noStrike">
                          <a:solidFill>
                            <a:srgbClr val="000000"/>
                          </a:solidFill>
                          <a:latin typeface="仿宋_GB2312"/>
                          <a:ea typeface="仿宋_GB2312"/>
                        </a:rPr>
                        <a:t>比例</a:t>
                      </a:r>
                      <a:r>
                        <a:rPr b="0" lang="en-US" sz="2000" spc="-1" strike="noStrike">
                          <a:solidFill>
                            <a:srgbClr val="000000"/>
                          </a:solidFill>
                          <a:latin typeface="仿宋_GB2312"/>
                          <a:ea typeface="仿宋_GB2312"/>
                        </a:rPr>
                        <a:t>%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gt;=80</a:t>
                      </a:r>
                      <a:r>
                        <a:rPr b="0" lang="zh-CN" sz="2000" spc="-1" strike="noStrike">
                          <a:solidFill>
                            <a:srgbClr val="000000"/>
                          </a:solidFill>
                          <a:latin typeface="仿宋_GB2312"/>
                          <a:ea typeface="仿宋_GB2312"/>
                        </a:rPr>
                        <a:t>比例</a:t>
                      </a:r>
                      <a:r>
                        <a:rPr b="0" lang="en-US" sz="2000" spc="-1" strike="noStrike">
                          <a:solidFill>
                            <a:srgbClr val="000000"/>
                          </a:solidFill>
                          <a:latin typeface="仿宋_GB2312"/>
                          <a:ea typeface="仿宋_GB2312"/>
                        </a:rPr>
                        <a:t>%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lt;80</a:t>
                      </a:r>
                      <a:r>
                        <a:rPr b="0" lang="zh-CN" sz="2000" spc="-1" strike="noStrike">
                          <a:solidFill>
                            <a:srgbClr val="000000"/>
                          </a:solidFill>
                          <a:latin typeface="仿宋_GB2312"/>
                          <a:ea typeface="仿宋_GB2312"/>
                        </a:rPr>
                        <a:t>比例</a:t>
                      </a:r>
                      <a:r>
                        <a:rPr b="0" lang="en-US" sz="2000" spc="-1" strike="noStrike">
                          <a:solidFill>
                            <a:srgbClr val="000000"/>
                          </a:solidFill>
                          <a:latin typeface="仿宋_GB2312"/>
                          <a:ea typeface="仿宋_GB2312"/>
                        </a:rPr>
                        <a:t>% </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1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801HBV</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81</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92.8</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3.3</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3.9</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22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801HCV</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67</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88.1</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3.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8.9</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5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802HBV</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77</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97.2</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1</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7</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802HCV</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65</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95.4</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4.6</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803HBV</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77</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94.9</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3.4</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7</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803HCV</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66</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93.9</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4.5</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6</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乙肝病毒</a:t>
            </a:r>
            <a:r>
              <a:rPr b="1" lang="en-US" sz="4400" spc="-1" strike="noStrike">
                <a:solidFill>
                  <a:srgbClr val="333399"/>
                </a:solidFill>
                <a:latin typeface="Tahoma"/>
              </a:rPr>
              <a:t>DNA</a:t>
            </a:r>
            <a:r>
              <a:rPr b="1" lang="zh-CN" sz="4400" spc="-1" strike="noStrike">
                <a:solidFill>
                  <a:srgbClr val="333399"/>
                </a:solidFill>
                <a:latin typeface="Tahoma"/>
              </a:rPr>
              <a:t>试剂汇总</a:t>
            </a:r>
            <a:r>
              <a:rPr b="0" lang="zh-CN" sz="4400" spc="-1" strike="noStrike">
                <a:solidFill>
                  <a:srgbClr val="333399"/>
                </a:solidFill>
                <a:latin typeface="Tahoma"/>
              </a:rPr>
              <a:t> </a:t>
            </a:r>
            <a:endParaRPr b="0" lang="en-US" sz="4400" spc="-1" strike="noStrike">
              <a:solidFill>
                <a:srgbClr val="333399"/>
              </a:solidFill>
              <a:latin typeface="Tahoma"/>
            </a:endParaRPr>
          </a:p>
        </p:txBody>
      </p:sp>
      <p:graphicFrame>
        <p:nvGraphicFramePr>
          <p:cNvPr id="115" name=""/>
          <p:cNvGraphicFramePr/>
          <p:nvPr/>
        </p:nvGraphicFramePr>
        <p:xfrm>
          <a:off x="1182600" y="2017800"/>
          <a:ext cx="7134480" cy="3819600"/>
        </p:xfrm>
        <a:graphic>
          <a:graphicData uri="http://schemas.openxmlformats.org/drawingml/2006/table">
            <a:tbl>
              <a:tblPr/>
              <a:tblGrid>
                <a:gridCol w="2378160"/>
                <a:gridCol w="2378160"/>
                <a:gridCol w="2378160"/>
              </a:tblGrid>
              <a:tr h="469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试剂</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实验室数</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试剂百分率</a:t>
                      </a:r>
                      <a:r>
                        <a:rPr b="0" lang="en-US" sz="2000" spc="-1" strike="noStrike">
                          <a:solidFill>
                            <a:srgbClr val="000000"/>
                          </a:solidFill>
                          <a:latin typeface="仿宋_GB2312"/>
                          <a:ea typeface="仿宋_GB2312"/>
                        </a:rPr>
                        <a:t>(%)</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8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上海科华</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6</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9.1</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9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达安基因</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96</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54.5</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9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上海复星</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5</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2.8</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7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厦门安普利</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3</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7</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8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湖南圣湘</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37</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21.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8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上海之江</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2</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6.8</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8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其他</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7</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4.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丙肝病毒</a:t>
            </a:r>
            <a:r>
              <a:rPr b="1" lang="en-US" sz="4400" spc="-1" strike="noStrike">
                <a:solidFill>
                  <a:srgbClr val="333399"/>
                </a:solidFill>
                <a:latin typeface="Tahoma"/>
              </a:rPr>
              <a:t>RNA</a:t>
            </a:r>
            <a:r>
              <a:rPr b="1" lang="zh-CN" sz="4400" spc="-1" strike="noStrike">
                <a:solidFill>
                  <a:srgbClr val="333399"/>
                </a:solidFill>
                <a:latin typeface="Tahoma"/>
              </a:rPr>
              <a:t>试剂汇总</a:t>
            </a:r>
            <a:endParaRPr b="0" lang="en-US" sz="4400" spc="-1" strike="noStrike">
              <a:solidFill>
                <a:srgbClr val="333399"/>
              </a:solidFill>
              <a:latin typeface="Tahoma"/>
            </a:endParaRPr>
          </a:p>
        </p:txBody>
      </p:sp>
      <p:graphicFrame>
        <p:nvGraphicFramePr>
          <p:cNvPr id="117" name=""/>
          <p:cNvGraphicFramePr/>
          <p:nvPr/>
        </p:nvGraphicFramePr>
        <p:xfrm>
          <a:off x="1187280" y="1989000"/>
          <a:ext cx="6918480" cy="3822840"/>
        </p:xfrm>
        <a:graphic>
          <a:graphicData uri="http://schemas.openxmlformats.org/drawingml/2006/table">
            <a:tbl>
              <a:tblPr/>
              <a:tblGrid>
                <a:gridCol w="2401920"/>
                <a:gridCol w="2067120"/>
                <a:gridCol w="2449440"/>
              </a:tblGrid>
              <a:tr h="513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      </a:t>
                      </a:r>
                      <a:r>
                        <a:rPr b="0" lang="zh-CN" sz="2000" spc="-1" strike="noStrike">
                          <a:solidFill>
                            <a:srgbClr val="000000"/>
                          </a:solidFill>
                          <a:latin typeface="仿宋_GB2312"/>
                          <a:ea typeface="仿宋_GB2312"/>
                        </a:rPr>
                        <a:t>试剂</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  </a:t>
                      </a:r>
                      <a:r>
                        <a:rPr b="0" lang="zh-CN" sz="2000" spc="-1" strike="noStrike">
                          <a:solidFill>
                            <a:srgbClr val="000000"/>
                          </a:solidFill>
                          <a:latin typeface="仿宋_GB2312"/>
                          <a:ea typeface="仿宋_GB2312"/>
                        </a:rPr>
                        <a:t>实验室数</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  </a:t>
                      </a:r>
                      <a:r>
                        <a:rPr b="0" lang="zh-CN" sz="2000" spc="-1" strike="noStrike">
                          <a:solidFill>
                            <a:srgbClr val="000000"/>
                          </a:solidFill>
                          <a:latin typeface="仿宋_GB2312"/>
                          <a:ea typeface="仿宋_GB2312"/>
                        </a:rPr>
                        <a:t>试剂百分率</a:t>
                      </a:r>
                      <a:r>
                        <a:rPr b="0" lang="en-US" sz="2000" spc="-1" strike="noStrike">
                          <a:solidFill>
                            <a:srgbClr val="000000"/>
                          </a:solidFill>
                          <a:latin typeface="仿宋_GB2312"/>
                          <a:ea typeface="仿宋_GB2312"/>
                        </a:rPr>
                        <a:t>(%)</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40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  </a:t>
                      </a:r>
                      <a:r>
                        <a:rPr b="0" lang="zh-CN" sz="2000" spc="-1" strike="noStrike">
                          <a:solidFill>
                            <a:srgbClr val="000000"/>
                          </a:solidFill>
                          <a:latin typeface="仿宋_GB2312"/>
                          <a:ea typeface="仿宋_GB2312"/>
                        </a:rPr>
                        <a:t>上海科华</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9</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4.1</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8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  </a:t>
                      </a:r>
                      <a:r>
                        <a:rPr b="0" lang="zh-CN" sz="2000" spc="-1" strike="noStrike">
                          <a:solidFill>
                            <a:srgbClr val="000000"/>
                          </a:solidFill>
                          <a:latin typeface="仿宋_GB2312"/>
                          <a:ea typeface="仿宋_GB2312"/>
                        </a:rPr>
                        <a:t>达安基因</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32</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5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厦门安普利</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2</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3.1</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696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上海之江</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3</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4.7</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515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湖南圣湘</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6</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25</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09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    </a:t>
                      </a:r>
                      <a:r>
                        <a:rPr b="0" lang="zh-CN" sz="2000" spc="-1" strike="noStrike">
                          <a:solidFill>
                            <a:srgbClr val="000000"/>
                          </a:solidFill>
                          <a:latin typeface="仿宋_GB2312"/>
                          <a:ea typeface="仿宋_GB2312"/>
                        </a:rPr>
                        <a:t>其他</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2</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3.1</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乙肝</a:t>
            </a:r>
            <a:r>
              <a:rPr b="1" lang="en-US" sz="4400" spc="-1" strike="noStrike">
                <a:solidFill>
                  <a:srgbClr val="333399"/>
                </a:solidFill>
                <a:latin typeface="Tahoma"/>
              </a:rPr>
              <a:t>DNA</a:t>
            </a:r>
            <a:r>
              <a:rPr b="1" lang="zh-CN" sz="4400" spc="-1" strike="noStrike">
                <a:solidFill>
                  <a:srgbClr val="333399"/>
                </a:solidFill>
                <a:latin typeface="Tahoma"/>
              </a:rPr>
              <a:t>仪器汇总</a:t>
            </a:r>
            <a:endParaRPr b="0" lang="en-US" sz="4400" spc="-1" strike="noStrike">
              <a:solidFill>
                <a:srgbClr val="333399"/>
              </a:solidFill>
              <a:latin typeface="Tahoma"/>
            </a:endParaRPr>
          </a:p>
        </p:txBody>
      </p:sp>
      <p:graphicFrame>
        <p:nvGraphicFramePr>
          <p:cNvPr id="119" name=""/>
          <p:cNvGraphicFramePr/>
          <p:nvPr/>
        </p:nvGraphicFramePr>
        <p:xfrm>
          <a:off x="1187280" y="1833480"/>
          <a:ext cx="7134480" cy="3227400"/>
        </p:xfrm>
        <a:graphic>
          <a:graphicData uri="http://schemas.openxmlformats.org/drawingml/2006/table">
            <a:tbl>
              <a:tblPr/>
              <a:tblGrid>
                <a:gridCol w="2378160"/>
                <a:gridCol w="2378160"/>
                <a:gridCol w="2378160"/>
              </a:tblGrid>
              <a:tr h="463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zh-CN" sz="1600" spc="-1" strike="noStrike">
                          <a:solidFill>
                            <a:srgbClr val="000000"/>
                          </a:solidFill>
                          <a:latin typeface="Tahoma"/>
                        </a:rPr>
                        <a:t>仪器</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zh-CN" sz="1600" spc="-1" strike="noStrike">
                          <a:solidFill>
                            <a:srgbClr val="000000"/>
                          </a:solidFill>
                          <a:latin typeface="Tahoma"/>
                        </a:rPr>
                        <a:t>实验室数</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仪器百分率</a:t>
                      </a:r>
                      <a:r>
                        <a:rPr b="0"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BI</a:t>
                      </a:r>
                      <a:r>
                        <a:rPr b="0" lang="zh-CN" sz="1600" spc="-1" strike="noStrike">
                          <a:solidFill>
                            <a:srgbClr val="000000"/>
                          </a:solidFill>
                          <a:latin typeface="Tahoma"/>
                        </a:rPr>
                        <a:t>系列</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4</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0.9</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仿宋_GB2312"/>
                        </a:rPr>
                        <a:t>ROCHE </a:t>
                      </a:r>
                      <a:r>
                        <a:rPr b="0" lang="zh-CN" sz="1600" spc="-1" strike="noStrike">
                          <a:solidFill>
                            <a:srgbClr val="000000"/>
                          </a:solidFill>
                          <a:latin typeface="Tahoma"/>
                          <a:ea typeface="仿宋_GB2312"/>
                        </a:rPr>
                        <a:t>系列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2</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7.7</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仿宋_GB2312"/>
                        </a:rPr>
                        <a:t>Bio-Rad iCycle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7</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仿宋_GB2312"/>
                        </a:rPr>
                        <a:t>DA7600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7</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4.9</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仿宋_GB2312"/>
                        </a:rPr>
                        <a:t>科华 </a:t>
                      </a:r>
                      <a:r>
                        <a:rPr b="0" lang="en-US" sz="1600" spc="-1" strike="noStrike">
                          <a:solidFill>
                            <a:srgbClr val="000000"/>
                          </a:solidFill>
                          <a:latin typeface="Tahoma"/>
                          <a:ea typeface="仿宋_GB2312"/>
                        </a:rPr>
                        <a:t>Fluocycle</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仿宋_GB2312"/>
                        </a:rPr>
                        <a:t>上海宏石</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其他</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3</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2.7</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2018</a:t>
            </a:r>
            <a:r>
              <a:rPr b="0" lang="zh-CN" sz="4000" spc="-1" strike="noStrike">
                <a:solidFill>
                  <a:srgbClr val="333399"/>
                </a:solidFill>
                <a:latin typeface="Tahoma"/>
              </a:rPr>
              <a:t>地贫、</a:t>
            </a:r>
            <a:r>
              <a:rPr b="0" lang="en-US" sz="4000" spc="-1" strike="noStrike">
                <a:solidFill>
                  <a:srgbClr val="333399"/>
                </a:solidFill>
                <a:latin typeface="Tahoma"/>
              </a:rPr>
              <a:t>HPV</a:t>
            </a:r>
            <a:r>
              <a:rPr b="0" lang="zh-CN" sz="4000" spc="-1" strike="noStrike">
                <a:solidFill>
                  <a:srgbClr val="333399"/>
                </a:solidFill>
                <a:latin typeface="Tahoma"/>
              </a:rPr>
              <a:t>检测符合率（</a:t>
            </a:r>
            <a:r>
              <a:rPr b="0" lang="en-US" sz="4000" spc="-1" strike="noStrike">
                <a:solidFill>
                  <a:srgbClr val="333399"/>
                </a:solidFill>
                <a:latin typeface="Tahoma"/>
              </a:rPr>
              <a:t>%</a:t>
            </a:r>
            <a:r>
              <a:rPr b="0" lang="zh-CN" sz="4000" spc="-1" strike="noStrike">
                <a:solidFill>
                  <a:srgbClr val="333399"/>
                </a:solidFill>
                <a:latin typeface="Tahoma"/>
              </a:rPr>
              <a:t>）</a:t>
            </a:r>
            <a:endParaRPr b="0" lang="en-US" sz="4000" spc="-1" strike="noStrike">
              <a:solidFill>
                <a:srgbClr val="333399"/>
              </a:solidFill>
              <a:latin typeface="Tahoma"/>
            </a:endParaRPr>
          </a:p>
        </p:txBody>
      </p:sp>
      <p:graphicFrame>
        <p:nvGraphicFramePr>
          <p:cNvPr id="121" name=""/>
          <p:cNvGraphicFramePr/>
          <p:nvPr/>
        </p:nvGraphicFramePr>
        <p:xfrm>
          <a:off x="826920" y="2017800"/>
          <a:ext cx="8066160" cy="4151160"/>
        </p:xfrm>
        <a:graphic>
          <a:graphicData uri="http://schemas.openxmlformats.org/drawingml/2006/table">
            <a:tbl>
              <a:tblPr/>
              <a:tblGrid>
                <a:gridCol w="1152720"/>
                <a:gridCol w="1224000"/>
                <a:gridCol w="1368360"/>
                <a:gridCol w="1512720"/>
                <a:gridCol w="1366920"/>
                <a:gridCol w="1441440"/>
              </a:tblGrid>
              <a:tr h="759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样 本 批 号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20180101</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20180102</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20180103</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20180104</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20180105</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6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α-</a:t>
                      </a:r>
                      <a:r>
                        <a:rPr b="0" lang="zh-CN" sz="2000" spc="-1" strike="noStrike">
                          <a:solidFill>
                            <a:srgbClr val="000000"/>
                          </a:solidFill>
                          <a:latin typeface="仿宋_GB2312"/>
                          <a:ea typeface="仿宋_GB2312"/>
                        </a:rPr>
                        <a:t>地贫</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00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0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82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β-</a:t>
                      </a:r>
                      <a:r>
                        <a:rPr b="0" lang="zh-CN" sz="2000" spc="-1" strike="noStrike">
                          <a:solidFill>
                            <a:srgbClr val="000000"/>
                          </a:solidFill>
                          <a:latin typeface="仿宋_GB2312"/>
                          <a:ea typeface="仿宋_GB2312"/>
                        </a:rPr>
                        <a:t>地贫</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00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00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0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HPV-16/-18 DNA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98.3</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98.3</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0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HPV-16 DNA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94.8</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99</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99</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HPV-18 DNA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99</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96.9</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99</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每年地贫基因检测符合率（</a:t>
            </a:r>
            <a:r>
              <a:rPr b="0" lang="en-US" sz="3200" spc="-1" strike="noStrike">
                <a:solidFill>
                  <a:srgbClr val="333399"/>
                </a:solidFill>
                <a:latin typeface="Tahoma"/>
              </a:rPr>
              <a:t>%</a:t>
            </a:r>
            <a:r>
              <a:rPr b="0" lang="zh-CN" sz="3200" spc="-1" strike="noStrike">
                <a:solidFill>
                  <a:srgbClr val="333399"/>
                </a:solidFill>
                <a:latin typeface="Tahoma"/>
              </a:rPr>
              <a:t>）</a:t>
            </a:r>
            <a:endParaRPr b="0" lang="en-US" sz="3200" spc="-1" strike="noStrike">
              <a:solidFill>
                <a:srgbClr val="333399"/>
              </a:solidFill>
              <a:latin typeface="Tahoma"/>
            </a:endParaRPr>
          </a:p>
        </p:txBody>
      </p:sp>
      <p:graphicFrame>
        <p:nvGraphicFramePr>
          <p:cNvPr id="123" name=""/>
          <p:cNvGraphicFramePr/>
          <p:nvPr/>
        </p:nvGraphicFramePr>
        <p:xfrm>
          <a:off x="785880" y="2071800"/>
          <a:ext cx="7257960" cy="4700520"/>
        </p:xfrm>
        <a:graphic>
          <a:graphicData uri="http://schemas.openxmlformats.org/drawingml/2006/table">
            <a:tbl>
              <a:tblPr/>
              <a:tblGrid>
                <a:gridCol w="1590480"/>
                <a:gridCol w="1690920"/>
                <a:gridCol w="1887480"/>
                <a:gridCol w="2089080"/>
              </a:tblGrid>
              <a:tr h="4183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年份</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参加实验室</a:t>
                      </a: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缺失型</a:t>
                      </a:r>
                      <a:r>
                        <a:rPr b="0" lang="zh-CN" sz="1800" spc="-1" strike="noStrike">
                          <a:solidFill>
                            <a:srgbClr val="000000"/>
                          </a:solidFill>
                          <a:latin typeface="Times New Roman"/>
                          <a:ea typeface="宋体"/>
                        </a:rPr>
                        <a:t>α</a:t>
                      </a:r>
                      <a:r>
                        <a:rPr b="0" lang="zh-CN" sz="1800" spc="-1" strike="noStrike">
                          <a:solidFill>
                            <a:srgbClr val="000000"/>
                          </a:solidFill>
                          <a:latin typeface="Times New Roman"/>
                          <a:ea typeface="宋体"/>
                        </a:rPr>
                        <a:t>地贫</a:t>
                      </a: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突变性</a:t>
                      </a:r>
                      <a:r>
                        <a:rPr b="0" lang="zh-CN" sz="1800" spc="-1" strike="noStrike">
                          <a:solidFill>
                            <a:srgbClr val="000000"/>
                          </a:solidFill>
                          <a:latin typeface="Times New Roman"/>
                          <a:ea typeface="宋体"/>
                        </a:rPr>
                        <a:t>β</a:t>
                      </a:r>
                      <a:r>
                        <a:rPr b="0" lang="zh-CN" sz="1800" spc="-1" strike="noStrike">
                          <a:solidFill>
                            <a:srgbClr val="000000"/>
                          </a:solidFill>
                          <a:latin typeface="Times New Roman"/>
                          <a:ea typeface="宋体"/>
                        </a:rPr>
                        <a:t>地贫</a:t>
                      </a: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r>
              <a:tr h="6001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仿宋_GB2312"/>
                        </a:rPr>
                        <a:t>2013</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36</a:t>
                      </a:r>
                      <a:endParaRPr b="0" lang="en-US" sz="2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100</a:t>
                      </a:r>
                      <a:endParaRPr b="0" lang="en-US" sz="2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100</a:t>
                      </a:r>
                      <a:endParaRPr b="0" lang="en-US" sz="2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30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仿宋_GB2312"/>
                        </a:rPr>
                        <a:t>2014</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46</a:t>
                      </a:r>
                      <a:endParaRPr b="0" lang="en-US" sz="2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100</a:t>
                      </a:r>
                      <a:endParaRPr b="0" lang="en-US" sz="2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97.8</a:t>
                      </a:r>
                      <a:endParaRPr b="0" lang="en-US" sz="2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仿宋_GB2312"/>
                        </a:rPr>
                        <a:t>2015</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61</a:t>
                      </a:r>
                      <a:endParaRPr b="0" lang="en-US" sz="2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100</a:t>
                      </a:r>
                      <a:endParaRPr b="0" lang="en-US" sz="2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100</a:t>
                      </a:r>
                      <a:endParaRPr b="0" lang="en-US" sz="2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仿宋_GB2312"/>
                        </a:rPr>
                        <a:t>2016</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63</a:t>
                      </a:r>
                      <a:endParaRPr b="0" lang="en-US" sz="2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100</a:t>
                      </a:r>
                      <a:endParaRPr b="0" lang="en-US" sz="2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100</a:t>
                      </a:r>
                      <a:endParaRPr b="0" lang="en-US" sz="2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仿宋_GB2312"/>
                        </a:rPr>
                        <a:t>201701</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8</a:t>
                      </a:r>
                      <a:endParaRPr b="0" lang="en-US" sz="2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0</a:t>
                      </a:r>
                      <a:endParaRPr b="0" lang="en-US" sz="2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98.7</a:t>
                      </a:r>
                      <a:endParaRPr b="0" lang="en-US" sz="2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仿宋_GB2312"/>
                        </a:rPr>
                        <a:t>201702</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7</a:t>
                      </a:r>
                      <a:endParaRPr b="0" lang="en-US" sz="2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98.7</a:t>
                      </a:r>
                      <a:endParaRPr b="0" lang="en-US" sz="2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0</a:t>
                      </a:r>
                      <a:endParaRPr b="0" lang="en-US" sz="2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仿宋_GB2312"/>
                        </a:rPr>
                        <a:t>201801</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99</a:t>
                      </a:r>
                      <a:endParaRPr b="0" lang="en-US" sz="2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0</a:t>
                      </a:r>
                      <a:endParaRPr b="0" lang="en-US" sz="2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0</a:t>
                      </a:r>
                      <a:endParaRPr b="0" lang="en-US" sz="2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仿宋_GB2312"/>
                        </a:rPr>
                        <a:t>201802</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97</a:t>
                      </a:r>
                      <a:endParaRPr b="0" lang="en-US" sz="2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0</a:t>
                      </a:r>
                      <a:endParaRPr b="0" lang="en-US" sz="2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99</a:t>
                      </a:r>
                      <a:endParaRPr b="0" lang="en-US" sz="2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2T01:51:37Z</dcterms:created>
  <dc:creator>jt</dc:creator>
  <dc:description/>
  <dc:language>en-US</dc:language>
  <cp:lastModifiedBy>lenovo</cp:lastModifiedBy>
  <dcterms:modified xsi:type="dcterms:W3CDTF">2019-02-11T07:53:54Z</dcterms:modified>
  <cp:revision>574</cp:revision>
  <dc:subject/>
  <dc:title>2004-2005年广东省临床免疫学、特殊蛋白质量评价总结 </dc:title>
</cp:coreProperties>
</file>